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AC3-0FE0-46E2-9FCC-9ED2240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5D5-6C45-4AD7-A195-92BB853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001-BB1A-48EF-AB3A-36C46428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097-3E78-4260-97EA-0E7C7BAC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174-EC4E-4534-A6DA-8229AA8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D37-F007-4B3F-B72E-F6A3B16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D7C-2EFA-492B-95CA-F4DD113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D91-5BCC-47F4-832B-1E0A2EFB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C54-F737-4076-A00C-1091E98E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AD3-4C97-4A8D-93C9-C6362BD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2B4-883D-46E1-AEEB-9246E50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B7E-5238-48ED-B6AB-E5EF6905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52B-BB91-4EA3-9EA3-8F0E7AFF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notes for Quadratics before class starts!  We have not seen these i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e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cer ball is kicked with an initial velocity of 3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0t + 45.  How high would the ball be after 2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many seconds does the ball reach it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member how to label th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828800" y="4572000"/>
          <a:ext cx="1219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1219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ll is thrown into the air with an upward velocity of 40 ft/s. Its heigh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eet aft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conds is given by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ball’s maximum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Plug i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equation to solve for its maximu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3048120" y="2209680"/>
          <a:ext cx="3733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3733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Try… A small company markets a new toy.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s, in dollars, the total sal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function of the pr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) What price will produce the highest total s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) What is the maximum total sales predi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"/>
          <p:cNvGraphicFramePr/>
          <p:nvPr/>
        </p:nvGraphicFramePr>
        <p:xfrm>
          <a:off x="5486400" y="1143000"/>
          <a:ext cx="284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84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2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Ways to Solve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re it crosses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-Rooting” (*only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3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2m = -7 by grap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6 = 0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square-rooting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4x - 21 = 0 by fact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4x - 68 = 0 using the quadratic form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2(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4) = 32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th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is shot upward with an initial velocity of 240 feet per second so that its height s (in feet) above the ground after t seconds is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16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40t.  For what values of t will the object be at 416 feet above the 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3, 1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46:39Z</dcterms:created>
  <dc:creator>Sharon Fieldman</dc:creator>
  <dc:description/>
  <dc:language>en-US</dc:language>
  <cp:lastModifiedBy>sfieldman</cp:lastModifiedBy>
  <dcterms:modified xsi:type="dcterms:W3CDTF">2011-05-16T14:50:13Z</dcterms:modified>
  <cp:revision>16</cp:revision>
  <dc:subject/>
  <dc:title>Goal 4.02 Quadratic Functions</dc:title>
</cp:coreProperties>
</file>